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83C-451B-478D-A879-17E4679D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D21-1269-41CF-B99A-6C985721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B50-FEA7-4D21-9A26-3ABF71F1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BB7-F1A8-4941-92EE-49B2325E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ABFA-B7AA-47D8-B494-35C8C101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9A78-593B-4BEE-BBAE-6D874C1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2D71-6A67-4A19-8241-7CAFF4DB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280-0893-4AFF-AC9D-64C77BB2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4DC-4F8E-4FBE-BBB3-B5126C3A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98C3-EE4E-481A-91EA-34632353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F41D-2AC0-4356-930D-BBDE5A4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823-5B3E-4441-A98C-B5C8B1C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7428-22F6-4E93-81A7-615CEBA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CB47-9C34-49C1-B19D-30D208C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5AB-7974-4EA9-B66B-2B4E7DC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3DDE-364B-48C1-A3AC-E9EAC1E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E332-7EA3-4AE0-82EE-26872E32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27A-5D68-4928-ADD9-27D221F6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CA3-82B7-478C-B9B6-6899056B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5D7-2ECE-4465-B586-B3A3F81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EED-5CA4-4911-ABB9-C63321C5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EBD-6EC3-45FB-8DE4-6AC791AB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7C7-01BD-4B10-A1AC-9700E1A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FCC-21B5-4CD7-B2E8-051AA6D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1DAA-20B0-4823-95B0-9FB56C9BBF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3D43-FE7F-4BF3-BE49-7BFADD037B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ssé Composé ou Imparfai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000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st la </a:t>
            </a:r>
            <a:r>
              <a:rPr b="0" lang="en-US" sz="3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questio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al 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gard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 tableau quand mon portab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on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9780711232129.jpg"/>
          <p:cNvPicPr/>
          <p:nvPr/>
        </p:nvPicPr>
        <p:blipFill>
          <a:blip r:embed="rId1"/>
          <a:stretch/>
        </p:blipFill>
        <p:spPr>
          <a:xfrm>
            <a:off x="2133720" y="4038480"/>
            <a:ext cx="5181480" cy="21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ownloadedFile-4.jpeg"/>
          <p:cNvPicPr/>
          <p:nvPr/>
        </p:nvPicPr>
        <p:blipFill>
          <a:blip r:embed="rId2"/>
          <a:stretch/>
        </p:blipFill>
        <p:spPr>
          <a:xfrm>
            <a:off x="3962520" y="3809880"/>
            <a:ext cx="20318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à l’ép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utr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’hab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sou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quelqu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e temps en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le dimanche, le 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s les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ra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généra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Conditions (non-action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re is a class of verbs which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do not express action at all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Rather, they express </a:t>
            </a: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conditions, states of being, or states of mi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When these verbs occur in a past tense, it i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almost alway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the imparfait.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j0294935"/>
          <p:cNvPicPr/>
          <p:nvPr/>
        </p:nvPicPr>
        <p:blipFill>
          <a:blip r:embed="rId1"/>
          <a:stretch/>
        </p:blipFill>
        <p:spPr>
          <a:xfrm>
            <a:off x="1219320" y="2057400"/>
            <a:ext cx="35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3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en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23520" y="281952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sa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29560" y="3962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cr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397320" y="510552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voir et ê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MPj04033300000[1]"/>
          <p:cNvPicPr/>
          <p:nvPr/>
        </p:nvPicPr>
        <p:blipFill>
          <a:blip r:embed="rId1"/>
          <a:stretch/>
        </p:blipFill>
        <p:spPr>
          <a:xfrm>
            <a:off x="1066680" y="17524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6284520" y="266688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Voul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052680" y="380988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ou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39480" y="38098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dét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MCj03972500000[1]"/>
          <p:cNvPicPr/>
          <p:nvPr/>
        </p:nvPicPr>
        <p:blipFill>
          <a:blip r:embed="rId1"/>
          <a:stretch/>
        </p:blipFill>
        <p:spPr>
          <a:xfrm>
            <a:off x="990720" y="2057400"/>
            <a:ext cx="213336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38102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member that the </a:t>
            </a:r>
            <a:r>
              <a:rPr b="0" i="1" lang="fr-FR" sz="2800" spc="-1" strike="noStrike">
                <a:solidFill>
                  <a:srgbClr val="ad0000"/>
                </a:solidFill>
                <a:latin typeface="Tahoma"/>
              </a:rPr>
              <a:t>passé composé</a:t>
            </a:r>
            <a:r>
              <a:rPr b="0" lang="fr-FR" sz="2800" spc="-1" strike="noStrike">
                <a:solidFill>
                  <a:srgbClr val="ad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s used to express </a:t>
            </a:r>
            <a:r>
              <a:rPr b="0" i="1" lang="fr-FR" sz="2800" spc="-1" strike="noStrike" u="sng">
                <a:solidFill>
                  <a:srgbClr val="ad0000"/>
                </a:solidFill>
                <a:uFillTx/>
                <a:latin typeface="Tahoma"/>
              </a:rPr>
              <a:t>completed pas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j0237922"/>
          <p:cNvPicPr/>
          <p:nvPr/>
        </p:nvPicPr>
        <p:blipFill>
          <a:blip r:embed="rId1"/>
          <a:stretch/>
        </p:blipFill>
        <p:spPr>
          <a:xfrm>
            <a:off x="5943600" y="1523880"/>
            <a:ext cx="2282760" cy="198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98099"/>
          <p:cNvPicPr/>
          <p:nvPr/>
        </p:nvPicPr>
        <p:blipFill>
          <a:blip r:embed="rId2"/>
          <a:stretch/>
        </p:blipFill>
        <p:spPr>
          <a:xfrm>
            <a:off x="1523880" y="3886200"/>
            <a:ext cx="140976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3962520" y="43988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209680" y="198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Description and emotion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NaturesScenery.jpg"/>
          <p:cNvPicPr/>
          <p:nvPr/>
        </p:nvPicPr>
        <p:blipFill>
          <a:blip r:embed="rId1"/>
          <a:stretch/>
        </p:blipFill>
        <p:spPr>
          <a:xfrm>
            <a:off x="1219320" y="37339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images-3.jpeg"/>
          <p:cNvPicPr/>
          <p:nvPr/>
        </p:nvPicPr>
        <p:blipFill>
          <a:blip r:embed="rId2"/>
          <a:stretch/>
        </p:blipFill>
        <p:spPr>
          <a:xfrm>
            <a:off x="5105520" y="40384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457200" y="1523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u centre, écrivez une activité que vous avez fait le weekend dern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Puis sur les pétales, donnez des détails sur cette activit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images.jpeg"/>
          <p:cNvPicPr/>
          <p:nvPr/>
        </p:nvPicPr>
        <p:blipFill>
          <a:blip r:embed="rId1"/>
          <a:stretch/>
        </p:blipFill>
        <p:spPr>
          <a:xfrm>
            <a:off x="2514600" y="3505320"/>
            <a:ext cx="4876920" cy="2982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Prenez un tableau et dessinez une fleur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images.jpeg"/>
          <p:cNvPicPr/>
          <p:nvPr/>
        </p:nvPicPr>
        <p:blipFill>
          <a:blip r:embed="rId1"/>
          <a:stretch/>
        </p:blipFill>
        <p:spPr>
          <a:xfrm>
            <a:off x="1752480" y="1981080"/>
            <a:ext cx="6172200" cy="4354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Exemple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191120" y="365760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 suis allé au ciné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181480" y="2362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’était 7: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095880" y="35053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l faisait froid et il pleuva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5105520" y="48006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e portais un impermé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2057400" y="36576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’étais avec  mes par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124080" y="5105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is j’étais mal luné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48120" y="24382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e film était n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391920" y="2743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ompl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352680" y="380988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536280" y="495288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eginning and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j0234131"/>
          <p:cNvPicPr/>
          <p:nvPr/>
        </p:nvPicPr>
        <p:blipFill>
          <a:blip r:embed="rId1"/>
          <a:stretch/>
        </p:blipFill>
        <p:spPr>
          <a:xfrm>
            <a:off x="838080" y="1905120"/>
            <a:ext cx="207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577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ils ____________ le châtea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qu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s _________ fatigués, et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 très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f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quit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6765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fais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73392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00400" y="4724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arçon ____________ à nos 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de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e qu ’ils ___________ prendre.  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voul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_ une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com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de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219320" y="3809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com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666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voul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257800" y="3581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1911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 plus 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zanne ________ français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ar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glais.  Mais elle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oubl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 ’angl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800600" y="3809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oubl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971800" y="2743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ar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724280" y="1600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4876920" y="3429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505320" y="4800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 soeur __________ au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jou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__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to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 la che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se fou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jou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21932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s ’est fo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5053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est tomb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029200" y="16002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inuing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486400" y="3429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581280" y="4800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j ’_________ neuf a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av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j ’ __________ à Paris, et j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hab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 le métro tous les j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rend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5812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300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re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82880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hab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029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9880" y="3581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3526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Jeudi dernier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, je suis allé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New York avec mon am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é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rain.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pr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rain à 9 heures et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arriv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Grand Central à 10 heures 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D’ab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b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afé, puis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visi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musée Metropol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Après ç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mang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Finalem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rentr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Fairfield le so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34131"/>
          <p:cNvPicPr/>
          <p:nvPr/>
        </p:nvPicPr>
        <p:blipFill>
          <a:blip r:embed="rId1"/>
          <a:stretch/>
        </p:blipFill>
        <p:spPr>
          <a:xfrm>
            <a:off x="7315200" y="-4680"/>
            <a:ext cx="14479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un jour / un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jour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matin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à ce moment –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tout d’un c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ou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MCj04235510000[1]"/>
          <p:cNvPicPr/>
          <p:nvPr/>
        </p:nvPicPr>
        <p:blipFill>
          <a:blip r:embed="rId1"/>
          <a:stretch/>
        </p:blipFill>
        <p:spPr>
          <a:xfrm>
            <a:off x="7010280" y="1295280"/>
            <a:ext cx="1644840" cy="183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h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mois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a semain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weekend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’anné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il y a ----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Cj04235510000[1]"/>
          <p:cNvPicPr/>
          <p:nvPr/>
        </p:nvPicPr>
        <p:blipFill>
          <a:blip r:embed="rId1"/>
          <a:stretch/>
        </p:blipFill>
        <p:spPr>
          <a:xfrm>
            <a:off x="7162920" y="304920"/>
            <a:ext cx="1644480" cy="1831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Uses of 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mparfait, however, by definition, mean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imperfec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Its uses are much less clearly defin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600200" y="3505320"/>
            <a:ext cx="7238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hey fall into three basic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scription (non-action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943600" y="4038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used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400800" y="4572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was 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629400" y="5105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d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3526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ontin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389400" y="274320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nd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469320" y="38098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imes/ 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4290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469320" y="22096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b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352680" y="3276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387240" y="441972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613560" y="2116080"/>
            <a:ext cx="22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5105520" y="2895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2578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943600" y="2057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scription (ma journée à 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ais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 et chau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printemps. Il y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v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coup d’arbres en fle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ét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ureuse</a:t>
            </a: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ort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joli chapeau à fl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Habitual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d j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s les jours, 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id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 mère à faire la vaissel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temps en temps mon frèr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onda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 gazon, mais souvent 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oua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 baseball avec ses am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j0232738"/>
          <p:cNvPicPr/>
          <p:nvPr/>
        </p:nvPicPr>
        <p:blipFill>
          <a:blip r:embed="rId1"/>
          <a:stretch/>
        </p:blipFill>
        <p:spPr>
          <a:xfrm>
            <a:off x="7543800" y="38088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199036"/>
          <p:cNvPicPr/>
          <p:nvPr/>
        </p:nvPicPr>
        <p:blipFill>
          <a:blip r:embed="rId2"/>
          <a:stretch/>
        </p:blipFill>
        <p:spPr>
          <a:xfrm>
            <a:off x="6858000" y="4038480"/>
            <a:ext cx="16588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19:41Z</dcterms:modified>
  <cp:revision>79</cp:revision>
  <dc:subject/>
  <dc:title>Allez, viens! – Level 2</dc:title>
</cp:coreProperties>
</file>